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478B-6DD3-469A-B054-E24D3F3C29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9B75-872C-4535-A8FB-F8F0CD9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CDB8-8523-4E76-A3A1-471A3C02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904B-4BBA-4222-9568-FEB742274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F286-E969-4102-9D7E-EF19DF0F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BBAD-1FF0-4B02-A09D-EC5D783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ED9E-8F95-4579-8FC3-DFBAA28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A217-E217-47F5-B15C-78C5042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CA40-1DF0-4C0D-8FE7-90D2CBA1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6506-D4DC-4698-BAD4-CDA24A8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BF9C-218C-41CB-9FA4-8A5439C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973F-74FE-40B8-A6E5-6C826FB1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8BD-E197-4094-833F-320EB8EF7085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2006/05/23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 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197000"/>
            <a:ext cx="2376360" cy="82692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BMG PH 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u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v. Kemen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-P. Höckenre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. Lutterb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L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usiness Operations Support</a:t>
            </a:r>
            <a:br>
              <a:rPr sz="2800"/>
            </a:b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MG PH RD BO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227640" y="6165720"/>
            <a:ext cx="1295280" cy="246240"/>
            <a:chOff x="6227640" y="6165720"/>
            <a:chExt cx="1295280" cy="246240"/>
          </a:xfrm>
        </p:grpSpPr>
        <p:sp>
          <p:nvSpPr>
            <p:cNvPr id="66" name=""/>
            <p:cNvSpPr/>
            <p:nvPr/>
          </p:nvSpPr>
          <p:spPr>
            <a:xfrm>
              <a:off x="6227640" y="6165720"/>
              <a:ext cx="3585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6200" y="6165720"/>
              <a:ext cx="9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ork 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1672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877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 Organisation not existent today in Asia. Tbd. dur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FC97-23D0-493F-B9FF-EF144A7E3AB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24T10:01:55Z</dcterms:modified>
  <cp:revision>67</cp:revision>
  <dc:subject/>
  <dc:title>PHE R&amp;D</dc:title>
</cp:coreProperties>
</file>